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3A1D-3080-4DD0-B911-A9B9E3CF2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B532-DB30-4824-8EA7-CCC8E7B89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4AC-82A2-426B-A940-C8B5B4A67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66D-9229-485A-B6F3-18BC27DA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A74-0D3F-40CA-80E8-CFCC8849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88C-CC77-4F77-9465-80D64A9D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0DA-2FF2-4810-A74C-78C12B5B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465-0507-4241-B0CD-39D6BAD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0F0-309C-4E43-8A94-10A12092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634-F7F3-453C-8975-62824A0C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0E3-8C19-4A3F-962A-13F860F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0D4-F735-4C7F-AB44-6FFBAAA0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FEB-5E14-4E0D-BFF0-CC08A85D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50C-E38A-4634-916C-7AA6A87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285-3D94-4DC1-99C5-6B1E582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8ED0-76CE-4EED-AF1D-C4933FF67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Connections/Anchor Cha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to self*text to text* text to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828800" y="2338560"/>
            <a:ext cx="5334120" cy="3528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828800" y="1752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3716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1981080" y="2338560"/>
            <a:ext cx="5029200" cy="3466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752480" y="1600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752480" y="11430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8098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286000" y="457200"/>
            <a:ext cx="4419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servation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5257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ion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791320" cy="1143000"/>
          </a:xfrm>
          <a:prstGeom prst="rect">
            <a:avLst/>
          </a:prstGeom>
          <a:noFill/>
          <a:ln w="9360">
            <a:solidFill>
              <a:srgbClr val="000000">
                <a:alpha val="97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ndering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733560" cy="4978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514600" y="533520"/>
            <a:ext cx="4343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Focus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3:20:26Z</dcterms:created>
  <dc:creator>HISD</dc:creator>
  <dc:description/>
  <dc:language>en-US</dc:language>
  <cp:lastModifiedBy>HISD</cp:lastModifiedBy>
  <dcterms:modified xsi:type="dcterms:W3CDTF">2010-10-13T23:57:42Z</dcterms:modified>
  <cp:revision>6</cp:revision>
  <dc:subject/>
  <dc:title>Slide 1</dc:title>
</cp:coreProperties>
</file>